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BEC-4FE4-48DA-93BC-BE149451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498-5088-4450-BE47-424465BC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A95-53E9-439B-B7FC-E29A50BC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299-EA46-4D44-B594-31804145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2F7F-AB8E-47FE-972C-44064A71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F37D-C7B2-417B-B122-B624FF9B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ABA6-EE61-4122-A865-D3419D0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356F-4EDA-4A48-A720-4AEBC018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B209-7B53-400D-A9BA-B1D72710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6BE4-557E-4DFD-A764-2C3D1DA8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328E-3C70-495F-AAED-B321288B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2A0-5928-4DB7-B6BC-23328F33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DDA6-20F4-47BD-93BF-A118268F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F30F-3320-40E6-BB16-58C463A0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07F1-D475-4DE6-BDFF-FA163A93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92D1-15CC-4FC8-830F-6339857C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88E3-DA04-47E8-A33F-971E96AB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DE8-17E7-4EEA-B1DF-F7130033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64B-8CA8-45D8-A498-FDDDABFE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9D0-CE18-4D0D-9F51-3BD39487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AC0-9736-4FC4-A835-B358E420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00E-B723-4C59-90C4-797BEBAA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39A-A4A3-42E2-A741-2689B368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AE6-AE4B-4D0E-8FD8-AA6982C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B25B-2765-4DA2-AAD2-000CD79728A9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16AC-009A-4624-AF46-5305A4552C95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mbda-solutions.de/ddo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9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cc"/>
                </a:solidFill>
                <a:latin typeface="Arial Narrow"/>
              </a:rPr>
              <a:t>Detecting DDOS Attacks &amp; Countermeasures at ISPs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3848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n-Ahrent Cz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de-DE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www.lambda-solutions.de/ddo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lambda-solutions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gatel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19C3-logo-perspective-large" descr="19C3 Pentagon Logo"/>
          <p:cNvPicPr/>
          <p:nvPr/>
        </p:nvPicPr>
        <p:blipFill>
          <a:blip r:embed="rId2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nsätze der ISP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fassung von diversen Methoden [4]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ush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P Trace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enter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10280" y="4648320"/>
            <a:ext cx="15624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chanismus des rate-limit mit Signalierung an die Upstream-Router um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NUR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den DDOS-Traffic zu filtern, und legitimen Traffic durchzulas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mulierung im ipfw von FreeBSD erfolgreich, Umsetzung in IOS / Junos noch fragl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s Proposal von S. Bellovin[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ar Story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wurde im AT&amp;T Lab ein Router-Netz aufgeba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tsprechend dem Draft von Bellovin wurden ipfw Regeln definiert, die bei entsprechender Signalisierung greif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sts haben funktioniert, es mangelt aber an Umsetzung im Re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IP Trace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weiterung des Protocol-Stacks (IETF WG) lt. Vorschlag von S.Bellovin [6] um Informationen im IP-Header unterzubringen, welchen Weg das Paket genommen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Zurückverfolgung von Attacken (-&gt;Quellrechn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ofern nur sinnvoll bei gespooften Quelladressen, viele Attacken sind aber non-spoof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Fix your net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itiative „smurf-amplifiers“ war ein Erfolg. Viele Netze wurden gefi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 sind nicht mehr Netze, sondern private Rechner hinter Broadband-Netzen (xDSL/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wareness der DSL-Router-hersteller intensivieren -&gt; Filter im DSL Ro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ktuelle Patches einset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alitätsbezu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rher benannte Möglichkeiten sind nur in gewissen Kontexten nutzbar, jedoch nicht als Gesamtlösung zu betrach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ist die Community gefragt, eventuelle Ideen zu sammeln um eine gemeinsame Lösung zu find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ige Ideen fol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1: distributed blo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ordination einer Instanz an zentralen Exchange-Points zwischen I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nouncen von Black-Hole Routen analog zu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igger“-Möglichkeiten fehl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dee wäre snort o.ä. zu modifizieren, um es in diesem Kontext nutzbar zu mac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2: distributed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en einer distributed Infrastruktur um entsprechende Rechner zu blocken, bzw. um Filterregeln zu setz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ternativ: „Gegenattacke“ gegen Quel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ICHT zu empfehlen, aber dennoch sollte man es diskut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3: friendly vi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mbination aus Idee 1 (distributed block) um IP-Adressen zu sammel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stributed-friendly-Virus Attacke zu den Zombies um diese zu fixen (z.B. Originalfiles wieder einspiel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Theoretisch) eine Möglich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Zusammenfassu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ige reaktive Methoden sind in Benutzu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eine proaktive Methode, um die DDOS-Angriffe einzudämmen bzw. sinnlos zu ma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iendly Virus scheint eine gewagte Methode zu sein, jedoch könnte vom Erfolg gekrönt s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fklärungsarbeit für Enduser hilft nur beding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ntr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geht um die Erstellung eines Kommunikationsforums zwischen der Community „Hacker“ und den ISPs um gemeinsam Lösungen für die DDOS-Problematik zu fin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gebnisse des Workshops werden bei einem der nächsten RIPE Meetings [1] vorgestel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Fragen 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vor wir zum 2. Teil (Workshop) übergehen, bestehen Fragen von Seiten des Publiku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2766960" cy="2711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orkshop (2.Teil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wünscht sich der Nutz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Method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Ide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2054160" cy="2438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enkansätz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 welchen Netzpunkten ist es topologisch sinnvoll, Filter bzw. Regeln zu setz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Internet Exchan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Zentral beim Provider (ISP/Carri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ank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ielen Dank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ür die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merksam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68452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sources/Link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1] http://www.ripe.net/ripe/meetings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2] http://www.nanog.org/mtg-9910/robert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3] http://www.secsup.org/Track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4] http://www.cymru.com/Documents/tracking-spoofed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5] http://www.isoc.org/isoc/conferences/ndss/02/ proceedings/papers/ioanni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6] http://www.research.att.com/~smb/papers/draft-bellovin-itrace-00.t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ortrag ist zu finden unt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ttp://www.lambda-solutions.de/dd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bedeutet eine Attacke von einen oder mehren Hosts gegen ein Zi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zeit nur reaktive, aber nicht proaktive Reaktion mögl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troffen sind zunehmend Privatuser und „normale Websites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ist KEINE Belastung der Carrier, eher der ISPs, dem „Mittelstand“ in der Ket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rrier-Awareness ist bis auf wenige Ausnahmen g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Ps sind sehr stark davon betroffen, da ihr Business davon abhängt, das die Anbindung funktio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5827680"/>
            <a:ext cx="1035000" cy="1030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rt der Attacke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murf attacks (ICMP broadcast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fraggle attacks (e.g., UDP broacast to port 7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teardrop attack (IP fragmentation bug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land attack (IP source = destination addres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YN floo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asquerading (TCP sequence number guessing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tealth/idle scan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Statistisch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vielen ISP ist die Zunahme der DDOS spürbar (&gt;10%) im Vergleich zum 1.Halbjahr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iste Attacken kleiner 50 Mbit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zelne Attacken um Faktor 10 hö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nahme der non-spoofed DDOS Attacken mit Hilfe von „zombies“; privaten Rechnern hinter D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CenterTr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i Uunet eingesetzt[2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Erstellung eines Overlay-Netzes aus IP/MPLS-Tunnel, welches transparent auf eine Verbindung geschaltet werden kan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mbination aus BlackHole-BGP, netflow-stats und Logauswer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ltime-Monitoring; wird von Uunet aktiv eingesetz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BlackHole-BG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diversen Providern in Betrieb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t eine vereinfachte Variante des CenterTrack, wobei in einer zebra-Instanz Hostrouten an alle Router exportiert we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se Routen zeigen auf JEDEM Backbone-Router des ISP auf ein reject-Interface und verwerfen den Traffic entsprech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cc"/>
                </a:solidFill>
                <a:latin typeface="Arial Narrow"/>
              </a:rPr>
              <a:t>War Story: Blackhole-BGP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e Attacke findet statt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upport bzw. NOC setzt per CLI oder GUI auf einem Routeserver (BGP) eine Route mit T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oute wird exportiert und blockt Traffic zum Op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ogging auf das Tag bringt die Inbound-Interfaces hervor, von denen die DDOS origi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3:24:27Z</dcterms:created>
  <dc:creator>Administrator</dc:creator>
  <dc:description/>
  <dc:language>en-US</dc:language>
  <cp:lastModifiedBy>Administrator</cp:lastModifiedBy>
  <dcterms:modified xsi:type="dcterms:W3CDTF">2002-12-28T16:35:18Z</dcterms:modified>
  <cp:revision>18</cp:revision>
  <dc:subject/>
  <dc:title>Detecting DDOS Attacks &amp; Countermeasures at ISPs</dc:title>
</cp:coreProperties>
</file>