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BC4-3281-44F4-A9C4-79506B8C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AD5-2EC8-4E6D-8C05-D3D1FA2B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7B0-1892-48A7-A4AE-F8BBBF76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94E-9866-4A72-82D2-3E68CA90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DEB-4CBE-4D9E-B4A0-969F1610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0411-1EC6-4359-B313-5ACCF2CA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C0D2-696A-476F-B1B7-93E5A87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A99D-1A81-43F7-A2E6-6EF594C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E58-287B-4F26-A8F4-42F28D47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A484-D5EB-4382-830B-48049F11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936-420F-49EC-B8A3-FF494EA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506-E16B-4581-9F35-44344787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A582-8F7C-4317-8B42-953313D5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5BF4-E50B-440D-8229-447B1B3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AB2A-8CFF-40EB-8285-6CCED394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98F-12E6-4D60-889C-4A7DCCCA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3E91-E9AD-47F8-99A5-0FF42527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9E5-F537-419C-9FA3-03D30D51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B01-B7DF-4E23-A2FA-BFC61E5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A99-0AD0-40C8-9922-ED54A2AD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DDA-2680-4CE4-A686-21693CB2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783-E260-476B-8BA0-537D2570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8CB-EBAC-4D61-ACD7-E595961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723-96F9-45B5-A2E7-A5C68DF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A6C8-CE83-4DFC-BD56-93CC2775304B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466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FDCD-D4CD-475E-A614-97323B1C28A8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mbda-solutions.de/ddos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99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cc"/>
                </a:solidFill>
                <a:latin typeface="Arial Narrow"/>
              </a:rPr>
              <a:t>Detecting DDOS Attacks &amp; Countermeasures at ISPs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03848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Jan-Ahrent Cz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de-DE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www.lambda-solutions.de/ddo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lambda-solutions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AIL:&lt;czmok@gatel.d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19C3-logo-perspective-large" descr="19C3 Pentagon Logo"/>
          <p:cNvPicPr/>
          <p:nvPr/>
        </p:nvPicPr>
        <p:blipFill>
          <a:blip r:embed="rId2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nsätze der ISP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fassung von diversen Methoden [4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ush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P Trace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enter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562400" cy="1752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chanismus des rate-limit mit Signalierung an die Upstream-Router um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Arial"/>
              </a:rPr>
              <a:t>NU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den DDOS-Traffic zu filtern, und legitimen Traffic durchzulas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imulierung im ipfw von FreeBSD erfolgreich, Umsetzung in IOS / Junos noch fragl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iteres Proposal von S. Bellovin[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ar Story: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wurde im AT&amp;T Lab ein Router-Netz aufgeba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ntsprechend dem Draft von Bellovin wurden ipfw Regeln definiert, die bei entsprechender Signalisierung greif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sts haben funktioniert, es mangelt aber an Umsetzung im Re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IP Trace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weiterung des Protocol-Stacks (IETF WG) lt. Vorschlag von S.Bellovin [6] um Informationen im IP-Header unterzubringen, welchen Weg das Paket genommen h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Zurückverfolgung von Attacken (-&gt;Quellrechn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sofern nur sinnvoll bei gespooften Quelladressen, viele Attacken sind aber non-spoof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Fix your ne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itiative „smurf-amplifiers“ war ein Erfolg. Viele Netze wurden gefi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 sind nicht mehr Netze, sondern private Rechner hinter Broadband-Netzen (xDSL/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wareness der DSL-Router-hersteller intensivieren -&gt; Filter im DSL Ro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ktuelle Patches einset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alitätsbezu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orher benannte Möglichkeiten sind nur in gewissen Kontexten nutzbar, jedoch nicht als Gesamtlösung zu betrach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ist die Community gefragt, eventuelle Ideen zu sammeln um eine gemeinsame Lösung zu find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ige Ideen fol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1: distributed blo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ordination einer Instanz an zentralen Exchange-Points zwischen I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nouncen von Black-Hole Routen analog zu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igger“-Möglichkeiten fehl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dee wäre snort o.ä. zu modifizieren, um es in diesem Kontext nutzbar zu mac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2: distributed pushb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en einer distributed Infrastruktur um entsprechende Rechner zu blocken, bzw. um Filterregeln zu setz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lternativ: „Gegenattacke“ gegen Que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ICHT zu empfehlen, aber dennoch sollte man es diskut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1009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dee 3: friendly vi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ombination aus Idee 1 (distributed block) um IP-Adressen zu sammel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stributed-friendly-Virus Attacke zu den Zombies um diese zu fixen (z.B. Originalfiles wieder einspiel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Theoretisch) eine Möglich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Zusammenfassu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inige reaktive Methoden sind in Benutzu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eine proaktive Methode, um die DDOS-Angriffe einzudämmen bzw. sinnlos zu ma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riendly Virus scheint eine gewagte Methode zu sein, jedoch könnte vom Erfolg gekrönt s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fklärungsarbeit für Enduser hilft nur beding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Intro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s geht um die Erstellung eines Kommunikationsforums zwischen der Community „Hacker“ und den ISPs um gemeinsam Lösungen für die DDOS-Problematik zu fin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gebnisse des Workshops werden bei einem der nächsten RIPE Meetings [1] vorgestel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Fragen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vor wir zum 2. Teil (Workshop) übergehen, bestehen Fragen von Seiten des Publiku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2766960" cy="2711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Workshop (2.Teil)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wünscht sich der Nutz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Method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elche Ideen gibt es noch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2054160" cy="2438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enkansätz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 welchen Netzpunkten ist es topologisch sinnvoll, Filter bzw. Regeln zu setz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Internet Exchan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Zentral beim Provider (ISP/Carri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Dank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ielen Dank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ür die 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ufmerksamk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68452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0152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Resources/Link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1] http://www.ripe.net/ripe/meetings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2] http://www.nanog.org/mtg-9910/robert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3] http://www.secsup.org/Track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4] http://www.cymru.com/Documents/tracking-spoofed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5] http://www.isoc.org/isoc/conferences/ndss/02/ proceedings/papers/ioanni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[6] http://www.research.att.com/~smb/papers/draft-bellovin-itrace-00.t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ortrag ist zu finden unt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http://www.lambda-solutions.de/dd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bedeutet eine Attacke von einen oder mehren Hosts gegen ein Zi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zeit nur reaktive, aber nicht proaktive Reaktion mögli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troffen sind zunehmend Privatuser und „normale Websites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Themati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DOS ist KEINE Belastung der Carrier, eher der ISPs, dem „Mittelstand“ in der K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rrier-Awareness ist bis auf wenige Ausnahmen ge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Ps sind sehr stark davon betroffen, da ihr Business davon abhängt, das die Anbindung funktio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81480" y="5827680"/>
            <a:ext cx="1035000" cy="10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Art der Attacke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murf attacks (ICMP broadcas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fraggle attacks (e.g., UDP broacast to port 7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teardrop attack (IP fragmentation bug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land attack (IP source = destination addres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oS --SYN floo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asquerading (TCP sequence number guessing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ealth/idle scan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1028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Statistisch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vielen ISP ist die Zunahme der DDOS spürbar (&gt;10%) im Vergleich zum 1.Halbjahr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iste Attacken kleiner 50 Mbit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zelne Attacken um Faktor 10 hö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nahme der non-spoofed DDOS Attacken mit Hilfe von „zombies“; privaten Rechnern hinter D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CenterTrac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ei Uunet eingesetzt[2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Ziel ist die Erstellung eines Overlay-Netzes aus IP/MPLS-Tunnel, welches transparent auf eine Verbindung geschaltet werden kan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mbination aus BlackHole-BGP, netflow-stats und Logauswer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altime-Monitoring; wird von Uunet aktiv eingesetz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cc"/>
                </a:solidFill>
                <a:latin typeface="Arial Narrow"/>
              </a:rPr>
              <a:t>Lösung: BlackHole-BG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i diversen Providern in Betrieb [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eine vereinfachte Variante des CenterTrack, wobei in einer zebra-Instanz Hostrouten an alle Router exportiert we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se Routen zeigen auf JEDEM Backbone-Router des ISP auf ein reject-Interface und verwerfen den Traffic entsprech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cc"/>
                </a:solidFill>
                <a:latin typeface="Arial Narrow"/>
              </a:rPr>
              <a:t>War Story: Blackhole-BG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Attacke findet statt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upport bzw. NOC setzt per CLI oder GUI auf einem Routeserver (BGP) eine Route mit T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oute wird exportiert und blockt Traffic zum Op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ogging auf das Tag bringt die Inbound-Interfaces hervor, von denen die DDOS origini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19C3-logo-perspective-large" descr="19C3 Pentagon Logo"/>
          <p:cNvPicPr/>
          <p:nvPr/>
        </p:nvPicPr>
        <p:blipFill>
          <a:blip r:embed="rId1"/>
          <a:stretch/>
        </p:blipFill>
        <p:spPr>
          <a:xfrm>
            <a:off x="0" y="5986440"/>
            <a:ext cx="914400" cy="871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3:24:27Z</dcterms:created>
  <dc:creator>Administrator</dc:creator>
  <dc:description/>
  <dc:language>en-US</dc:language>
  <cp:lastModifiedBy>Administrator</cp:lastModifiedBy>
  <dcterms:modified xsi:type="dcterms:W3CDTF">2002-12-28T16:35:18Z</dcterms:modified>
  <cp:revision>18</cp:revision>
  <dc:subject/>
  <dc:title>Detecting DDOS Attacks &amp; Countermeasures at ISPs</dc:title>
</cp:coreProperties>
</file>