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17E-CBB1-4D1F-A5E2-E3C5F2A9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F44-DCDC-4640-88C3-D333264B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31C-9D2A-4824-BECE-1F2AF4D4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871-381A-49ED-BD33-5CF70804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CE4D-3761-4343-990B-D7673081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9A9C-3799-499C-9843-34A01D8A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B13C-2624-4653-9827-B713CCA2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4CA7-F78D-4D5B-94D5-88EE544E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BE8D-101F-4AC2-9EC2-6923F948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26B8-11FA-4354-B0B6-01B26183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D442-FF0E-4B67-8639-8A7E8916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E6D-9ACD-4474-AD37-C17DB847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E345-D491-49A4-9C40-9ABB5605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4A2B-8C76-42FC-8429-9CAAF0CB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9B85-CC49-4737-A74E-6E924598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0F78-6884-4B30-88DA-F8FD29CA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64FA-0A36-4417-A868-B76209C3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417-99DF-4CF4-8279-872C53E7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6A1-952F-48C4-85EB-1A010C62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515-E522-423F-B253-C229B950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9F1-D752-4AD1-A0A5-8EC2316D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E4C-8BB9-4FE7-960B-4CBE522B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71A-DC75-4B23-9F0A-3B4CC9CF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2E82-C8EF-47A4-AB5C-AF263510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32DE-3EC3-4358-BDAE-6A1BE9213803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2DBF-C2DC-4FA4-B888-431F980C822A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mbda-solutions.de/ddo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89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cc"/>
                </a:solidFill>
                <a:latin typeface="Arial Narrow"/>
              </a:rPr>
              <a:t>Detecting DDOS Attacks &amp; Countermeasures at ISPs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03848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Jan-Ahrent Czm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de-DE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www.lambda-solutions.de/ddo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MAIL:&lt;czmok@lambda-solutions.d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MAIL:&lt;czmok@gatel.d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19C3-logo-perspective-large" descr="19C3 Pentagon Logo"/>
          <p:cNvPicPr/>
          <p:nvPr/>
        </p:nvPicPr>
        <p:blipFill>
          <a:blip r:embed="rId2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Ansätze der ISP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fassung von diversen Methoden [4]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ush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P Trace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enter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10280" y="4648320"/>
            <a:ext cx="15624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chanismus des rate-limit mit Signalierung an die Upstream-Router um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NUR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den DDOS-Traffic zu filtern, und legitimen Traffic durchzulas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mulierung im ipfw von FreeBSD erfolgreich, Umsetzung in IOS / Junos noch fragl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iteres Proposal von S. Bellovin[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War Story: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wurde im AT&amp;T Lab ein Router-Netz aufgeba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ntsprechend dem Draft von Bellovin wurden ipfw Regeln definiert, die bei entsprechender Signalisierung greif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sts haben funktioniert, es mangelt aber an Umsetzung im Real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IP Trace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weiterung des Protocol-Stacks (IETF WG) lt. Vorschlag von S.Bellovin [6] um Informationen im IP-Header unterzubringen, welchen Weg das Paket genommen 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die Zurückverfolgung von Attacken (-&gt;Quellrechn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sofern nur sinnvoll bei gespooften Quelladressen, viele Attacken sind aber non-spoof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Fix your net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itiative „smurf-amplifiers“ war ein Erfolg. Viele Netze wurden gefi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lem sind nicht mehr Netze, sondern private Rechner hinter Broadband-Netzen (xDSL/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wareness der DSL-Router-hersteller intensivieren -&gt; Filter im DSL Ro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ktuelle Patches einset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Realitätsbezu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orher benannte Möglichkeiten sind nur in gewissen Kontexten nutzbar, jedoch nicht als Gesamtlösung zu betrach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ist die Community gefragt, eventuelle Ideen zu sammeln um eine gemeinsame Lösung zu find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ige Ideen folg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1: distributed blo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ordination einer Instanz an zentralen Exchange-Points zwischen IS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nouncen von Black-Hole Routen analog zu [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rigger“-Möglichkeiten fehl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dee wäre snort o.ä. zu modifizieren, um es in diesem Kontext nutzbar zu mach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2: distributed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tzen einer distributed Infrastruktur um entsprechende Rechner zu blocken, bzw. um Filterregeln zu setz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lternativ: „Gegenattacke“ gegen Quel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ICHT zu empfehlen, aber dennoch sollte man es diskut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3: friendly viru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mbination aus Idee 1 (distributed block) um IP-Adressen zu sammel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stributed-friendly-Virus Attacke zu den Zombies um diese zu fixen (z.B. Originalfiles wieder einspiel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Theoretisch) eine Möglich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Zusammenfassu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ige reaktive Methoden sind in Benutzu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eine proaktive Methode, um die DDOS-Angriffe einzudämmen bzw. sinnlos zu mac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riendly Virus scheint eine gewagte Methode zu sein, jedoch könnte vom Erfolg gekrönt s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fklärungsarbeit für Enduser hilft nur beding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ntr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geht um die Erstellung eines Kommunikationsforums zwischen der Community „Hacker“ und den ISPs um gemeinsam Lösungen für die DDOS-Problematik zu fin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gebnisse des Workshops werden bei einem der nächsten RIPE Meetings [1] vorgestel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Fragen 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vor wir zum 2. Teil (Workshop) übergehen, bestehen Fragen von Seiten des Publiku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2766960" cy="2711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Workshop (2.Teil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as wünscht sich der Nutze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lche Methoden gibt es noch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lche Ideen gibt es noch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2054160" cy="2438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Denkansätz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 welchen Netzpunkten ist es topologisch sinnvoll, Filter bzw. Regeln zu setz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Internet Exchan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Zentral beim Provider (ISP/Carri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Dank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ielen Dank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ür die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fmerksam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268452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0152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Resources/Links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1] http://www.ripe.net/ripe/meetings/index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2] http://www.nanog.org/mtg-9910/robert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3] http://www.secsup.org/Track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4] http://www.cymru.com/Documents/tracking-spoofed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5] http://www.isoc.org/isoc/conferences/ndss/02/ proceedings/papers/ioanni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6] http://www.research.att.com/~smb/papers/draft-bellovin-itrace-00.t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ortrag ist zu finden unt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ttp://www.lambda-solutions.de/dd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hemati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DOS bedeutet eine Attacke von einen oder mehren Hosts gegen ein Zi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rzeit nur reaktive, aber nicht proaktive Reaktion mögli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troffen sind zunehmend Privatuser und „normale Websites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hemati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DOS ist KEINE Belastung der Carrier, eher der ISPs, dem „Mittelstand“ in der Ket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rrier-Awareness ist bis auf wenige Ausnahmen ge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SPs sind sehr stark davon betroffen, da ihr Business davon abhängt, das die Anbindung funktioni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81480" y="5827680"/>
            <a:ext cx="1035000" cy="1030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Art der Attacke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smurf attacks (ICMP broadcast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fraggle attacks (e.g., UDP broacast to port 7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teardrop attack (IP fragmentation bug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land attack (IP source = destination addres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SYN floo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masquerading (TCP sequence number guessing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tealth/idle scann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Statistisch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 vielen ISP ist die Zunahme der DDOS spürbar (&gt;10%) im Vergleich zum 1.Halbjahr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iste Attacken kleiner 50 Mbit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zelne Attacken um Faktor 10 hö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nahme der non-spoofed DDOS Attacken mit Hilfe von „zombies“; privaten Rechnern hinter D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CenterTr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i Uunet eingesetzt[2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die Erstellung eines Overlay-Netzes aus IP/MPLS-Tunnel, welches transparent auf eine Verbindung geschaltet werden kan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mbination aus BlackHole-BGP, netflow-stats und Logauswer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altime-Monitoring; wird von Uunet aktiv eingesetz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BlackHole-BG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 diversen Providern in Betrieb [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st eine vereinfachte Variante des CenterTrack, wobei in einer zebra-Instanz Hostrouten an alle Router exportiert wer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ese Routen zeigen auf JEDEM Backbone-Router des ISP auf ein reject-Interface und verwerfen den Traffic entsprech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cc"/>
                </a:solidFill>
                <a:latin typeface="Arial Narrow"/>
              </a:rPr>
              <a:t>War Story: Blackhole-BGP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e Attacke findet statt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upport bzw. NOC setzt per CLI oder GUI auf einem Routeserver (BGP) eine Route mit T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oute wird exportiert und blockt Traffic zum Op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ogging auf das Tag bringt die Inbound-Interfaces hervor, von denen die DDOS origini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3:24:27Z</dcterms:created>
  <dc:creator>Administrator</dc:creator>
  <dc:description/>
  <dc:language>en-US</dc:language>
  <cp:lastModifiedBy>Administrator</cp:lastModifiedBy>
  <dcterms:modified xsi:type="dcterms:W3CDTF">2002-12-28T16:35:18Z</dcterms:modified>
  <cp:revision>18</cp:revision>
  <dc:subject/>
  <dc:title>Detecting DDOS Attacks &amp; Countermeasures at ISPs</dc:title>
</cp:coreProperties>
</file>