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37A-A70B-4791-AF0B-CF33FECD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79E-B799-45FE-B405-875A0F7E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943-89CB-4B8B-B0D3-EA473F4D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20B-4C8C-44E3-8270-B31A314D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20C6-6C90-4E95-BECB-E495F666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D0AC-CF86-4720-8AA2-683BCE30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0F6C-46BA-4A85-8E2D-80598F3D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9FF5-5A01-4809-AB0F-E56E359A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56A6-4571-434C-831E-02EB07F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F174-01F7-4A13-8AEF-B8A900F8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A355-31B1-464F-A87E-9F43AC4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FD8-B351-4874-BBA5-108E800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BFFE-7ABE-4CE9-88C3-2438FD5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DF6-D758-4D3C-BF73-A2CAE26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055F-2865-45E0-92AC-B023A69F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ED11-0329-4F7C-8407-81176C3D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602A-36F0-443F-A0F4-526B8C3E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A37-9DA6-4048-8555-22F59A28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789-A0EF-422C-B70E-E1A07574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F0D-4D59-41FE-8E32-584A5CD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3B6-4B0D-4852-B13D-E95FB53E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89E-9780-4CC2-8691-E394EE74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2D8-5F95-4CB9-8E38-1559F7DC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831-F99D-4C7E-938B-0424FBA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11E1-64DC-401E-BA29-1C6BDBD6AB6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2707-9E0C-40EF-8138-B8BE1B3D991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mbda-solutions.de/ddo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9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cc"/>
                </a:solidFill>
                <a:latin typeface="Arial Narrow"/>
              </a:rPr>
              <a:t>Detecting DDOS Attacks &amp; Countermeasures at ISPs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48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n-Ahrent Cz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de-DE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www.lambda-solutions.de/ddo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lambda-solutions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gatel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19C3-logo-perspective-large" descr="19C3 Pentagon Logo"/>
          <p:cNvPicPr/>
          <p:nvPr/>
        </p:nvPicPr>
        <p:blipFill>
          <a:blip r:embed="rId2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nsätze der ISP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fassung von diversen Methoden [4]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ush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P Trace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enter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5624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chanismus des rate-limit mit Signalierung an die Upstream-Router um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NU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den DDOS-Traffic zu filtern, und legitimen Traffic durchzulas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mulierung im ipfw von FreeBSD erfolgreich, Umsetzung in IOS / Junos noch frag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s Proposal von S. Bellovin[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ar Story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wurde im AT&amp;T Lab ein Router-Netz aufgeba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sprechend dem Draft von Bellovin wurden ipfw Regeln definiert, die bei entsprechender Signalisierung greif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sts haben funktioniert, es mangelt aber an Umsetzung im Re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IP Trace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weiterung des Protocol-Stacks (IETF WG) lt. Vorschlag von S.Bellovin [6] um Informationen im IP-Header unterzubringen, welchen Weg das Paket genommen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Zurückverfolgung von Attacken (-&gt;Quellrech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ofern nur sinnvoll bei gespooften Quelladressen, viele Attacken sind aber non-spoof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Fix your ne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itiative „smurf-amplifiers“ war ein Erfolg. Viele Netze wurden gefi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 sind nicht mehr Netze, sondern private Rechner hinter Broadband-Netzen (xDSL/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wareness der DSL-Router-hersteller intensivieren -&gt; Filter im DSL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ktuelle Patches einset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alitätsbezu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her benannte Möglichkeiten sind nur in gewissen Kontexten nutzbar, jedoch nicht als Gesamtlösung zu betrach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ist die Community gefragt, eventuelle Ideen zu sammeln um eine gemeinsame Lösung zu find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ige Ideen fol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1: distributed blo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ordination einer Instanz an zentralen Exchange-Points zwischen I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nouncen von Black-Hole Routen analog zu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igger“-Möglichkeiten fehl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dee wäre snort o.ä. zu modifizieren, um es in diesem Kontext nutzbar zu mac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2: distributed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en einer distributed Infrastruktur um entsprechende Rechner zu blocken, bzw. um Filterregeln zu setz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ternativ: „Gegenattacke“ gegen Que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ICHT zu empfehlen, aber dennoch sollte man es diskut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3: friendly vi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mbination aus Idee 1 (distributed block) um IP-Adressen zu sammel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stributed-friendly-Virus Attacke zu den Zombies um diese zu fixen (z.B. Originalfiles wieder einspiel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Theoretisch) eine Möglich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Zusammenfassu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ige reaktive Methoden sind in Benutzu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eine proaktive Methode, um die DDOS-Angriffe einzudämmen bzw. sinnlos zu ma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iendly Virus scheint eine gewagte Methode zu sein, jedoch könnte vom Erfolg gekrönt s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fklärungsarbeit für Enduser hilft nur bedin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nt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geht um die Erstellung eines Kommunikationsforums zwischen der Community „Hacker“ und den ISPs um gemeinsam Lösungen für die DDOS-Problematik zu fin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gebnisse des Workshops werden bei einem der nächsten RIPE Meetings [1] vorgestel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Fragen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vor wir zum 2. Teil (Workshop) übergehen, bestehen Fragen von Seiten des Publiku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2766960" cy="271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orkshop (2.Teil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wünscht sich der Nutz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Method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Ide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2054160" cy="2438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enkansätz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 welchen Netzpunkten ist es topologisch sinnvoll, Filter bzw. Regeln zu setz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Internet Exchan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Zentral beim Provider (ISP/Carri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ank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ielen Dank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ür die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merksam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68452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sources/Link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1] http://www.ripe.net/ripe/meetings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2] http://www.nanog.org/mtg-9910/robert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3] http://www.secsup.org/Track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4] http://www.cymru.com/Documents/tracking-spoofed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5] http://www.isoc.org/isoc/conferences/ndss/02/ proceedings/papers/ioanni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6] http://www.research.att.com/~smb/papers/draft-bellovin-itrace-00.t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ortrag ist zu finden unt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ttp://www.lambda-solutions.de/dd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bedeutet eine Attacke von einen oder mehren Hosts gegen ein Zi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zeit nur reaktive, aber nicht proaktive Reaktion mög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troffen sind zunehmend Privatuser und „normale Websites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ist KEINE Belastung der Carrier, eher der ISPs, dem „Mittelstand“ in der Ket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rrier-Awareness ist bis auf wenige Ausnahmen g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Ps sind sehr stark davon betroffen, da ihr Business davon abhängt, das die Anbindung funktio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5827680"/>
            <a:ext cx="1035000" cy="10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rt der Attacke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murf attacks (ICMP broadcas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fraggle attacks (e.g., UDP broacast to port 7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teardrop attack (IP fragmentation bug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land attack (IP source = destination addres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YN floo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asquerading (TCP sequence number guessing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tealth/idle scan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Statistisch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vielen ISP ist die Zunahme der DDOS spürbar (&gt;10%) im Vergleich zum 1.Halbjahr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iste Attacken kleiner 50 Mbit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zelne Attacken um Faktor 10 hö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nahme der non-spoofed DDOS Attacken mit Hilfe von „zombies“; privaten Rechnern hinter D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CenterTr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i Uunet eingesetzt[2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Erstellung eines Overlay-Netzes aus IP/MPLS-Tunnel, welches transparent auf eine Verbindung geschaltet werden kan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mbination aus BlackHole-BGP, netflow-stats und Logauswer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ltime-Monitoring; wird von Uunet aktiv eingesetz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BlackHole-BG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diversen Providern in Betrieb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t eine vereinfachte Variante des CenterTrack, wobei in einer zebra-Instanz Hostrouten an alle Router exportier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se Routen zeigen auf JEDEM Backbone-Router des ISP auf ein reject-Interface und verwerfen den Traffic entsprech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cc"/>
                </a:solidFill>
                <a:latin typeface="Arial Narrow"/>
              </a:rPr>
              <a:t>War Story: Blackhole-BGP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 Attacke findet stat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upport bzw. NOC setzt per CLI oder GUI auf einem Routeserver (BGP) eine Route mit T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oute wird exportiert und blockt Traffic zum Op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ogging auf das Tag bringt die Inbound-Interfaces hervor, von denen die DDOS origi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3:24:27Z</dcterms:created>
  <dc:creator>Administrator</dc:creator>
  <dc:description/>
  <dc:language>en-US</dc:language>
  <cp:lastModifiedBy>Administrator</cp:lastModifiedBy>
  <dcterms:modified xsi:type="dcterms:W3CDTF">2002-12-28T16:35:18Z</dcterms:modified>
  <cp:revision>18</cp:revision>
  <dc:subject/>
  <dc:title>Detecting DDOS Attacks &amp; Countermeasures at ISPs</dc:title>
</cp:coreProperties>
</file>